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7FA5-0EEE-4A6F-B133-49BB783D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BBE-E239-4CA2-BFDE-D2EC2E04E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232-6AB3-4F43-AEE2-803BB8DACB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038D-ECC1-4F20-89BD-825AEA583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F00-CBBE-400C-9337-CD1E63190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544-4409-40DE-80D1-DB621E62DC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B174-F659-4298-96AD-D1A6F578F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109-6B41-4FD6-8BD0-2477D7A8C2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7EF-CF31-41D4-87F7-37CA49254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8BE1-5B05-4B8B-A333-C0EFBA414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2C8F-C4B5-45B3-B7D0-D2561F422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086-9BFC-495A-9BDB-D4D1FE558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6CB-D5B9-4E6C-97D2-4B3D894F8F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45F-7F65-45B6-A964-2A7956542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C3DB-620C-4869-ACFE-7D28FBCDE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2CFE-AC58-4079-BBFB-62E72B5B2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058-AD43-437B-A54E-5D7E968AD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69E-7FA3-4539-81E1-66D0536B39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F48-4C5A-4815-B493-0090FEBD3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482-D54E-46E8-B0E2-EAB8C9FA6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4FC-E003-4626-A0E2-D7F4B7EAD3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0A9-1569-44F5-8B2E-28A093D111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7FA-3425-495F-B9D5-D4CAE5F41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BE8-C10C-41C4-9F2B-2D3C92EB1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43E5-2172-4682-88C5-15205A593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178-142F-4718-9244-00CF04F3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6A6-630F-42ED-8C9E-50FC305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30C-B4EF-471C-BA5C-D482FB62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57A-7BF2-47A9-AF9C-50303082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025F-C529-4198-8B7C-F47F9DE6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DAE-CC74-4D42-AC58-B2A5B659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EED-8839-4882-84D0-092B2F7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5BD-14CE-4892-A14D-0E212886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356-81F0-4C29-8485-3B207D1C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4C0-F07C-478D-8E46-62F160C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AD3-448C-44F6-B582-5269C68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E65-D80A-4B07-BFBD-6F4C165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91DD-DE38-4603-B67A-1EFF184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3546-49B8-432A-B14B-4969391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945-939E-40AE-9439-5EA0B3F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C244-E417-4E50-BA80-640B8B31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C1E3-72B1-4264-8B2E-D34CD502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20F-BBB6-4718-AAAA-0CDA6517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D13-88FC-4CC6-85AD-6F2B89EE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5BB-872F-4A4C-9D73-6641FB5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81F-AD12-4381-A34E-450B359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331-70B5-4951-8674-0788654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3AC-AF3B-4D65-B4E8-E28F1B9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034-DDC4-4A64-AE8D-67D6B7B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CFC-8CFC-4A89-A8C7-5856BA9ED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eat2"/>
          <p:cNvPicPr/>
          <p:nvPr/>
        </p:nvPicPr>
        <p:blipFill>
          <a:blip r:embed="rId3"/>
          <a:stretch/>
        </p:blipFill>
        <p:spPr>
          <a:xfrm>
            <a:off x="76212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62EE-8991-408A-90A7-82E430AFF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apter 2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visual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o hot for animals/people e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grade soils and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ergistic effect of many pollu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+ 1 = way more than 2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fates + nitrates do more damag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trogen oxid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NO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urning biomass including fossil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es of Nitrogen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acid rain pl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ive N levels in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dioxide is an irri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228240"/>
            <a:ext cx="80802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drocarb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0% are from natural sour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st from fossil fuels, cars…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generated from incomplete combustion of fuels or combustion by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Carcinogenic and highly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s (Volatile Organic Compo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s  (Polychlorinated Biph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rbo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high tox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from natural sources: ie volca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sources = fuel and biomass b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combustion of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about a month, then oxidizes into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tic converters on cars reduc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b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aturally occurring mi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ned and used in many building materials in the pa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imary source was leaded gaso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so from mining, smelting, indu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4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otochemical oxid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z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nal combustion engines:  c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ower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s to be worse in summer (high sunlight) and in ‘still’ air loaded with hydrocarbons and NO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a while to form, so can build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w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ollution cen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time Smog” can last day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937040" y="590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hotochemical Pollution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Ozone Production Chemistry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y ozone can be worse in rural areas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lth effects of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parable lung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lu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ravates asthma and chronic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ergistic effect : ozone and 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resses immun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y all man caused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ck No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some natural sour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ly, natural emissions are greater than human o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the exception of sulfur and nitrogen oxi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pollutants are more concentrated in urban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Quality Index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s how clean or polluted an area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door ai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for 5 major pollu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, SO2, NO2, PM, 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= 0 to 500  (100 = national standard for acceptable air qual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ve 100 =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ological Infl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make magnify air pollu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on lay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INVERSION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.A. Smog (photochemical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to car use: cars rel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x, CO, VOCs (ie: hydrocarbons), partic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ning, traffic = NO released, oxidizes t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tm.   Reacts with VOCs and sunlight to produce ozone. Ozone oxidizes NO to make more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process is cyc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ondon Sm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y, industrial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 by burning c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fur dioxides combine with atm. partic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downwind of areas with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issions (ie:  coal bur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 scale is logarithm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lutants react in atm to form sulfuric and nitric  ac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osited as rain, fog, snow or dry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plants and aquat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s buildings and stat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t Clean Air Act 1970 / 199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rge particul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tling chambers and cover exposed sites (fugitive sources), scrubbers, air filters, electrostatic precipit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, NOx, Hydrocarb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Autos:  catalytic conve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id r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se low sulfur coal or clean it by washing (expensive) or scrubbing.  Also conserve energy and/or use alternative energy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some human source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 station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point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gitive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re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 mo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ozone-pollution-mobile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rticul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mall mixed particles in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fine = smaller than .1 micron (virus size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partic1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5638680" y="1371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man hair is about 100 mic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P88-3e(1)"/>
          <p:cNvPicPr/>
          <p:nvPr/>
        </p:nvPicPr>
        <p:blipFill>
          <a:blip r:embed="rId1"/>
          <a:stretch/>
        </p:blipFill>
        <p:spPr>
          <a:xfrm>
            <a:off x="3124080" y="1371600"/>
            <a:ext cx="5715000" cy="5429160"/>
          </a:xfrm>
          <a:prstGeom prst="rect">
            <a:avLst/>
          </a:prstGeom>
          <a:ln w="9360">
            <a:solidFill>
              <a:srgbClr val="ee941c"/>
            </a:solidFill>
            <a:miter/>
          </a:ln>
        </p:spPr>
      </p:pic>
      <p:sp>
        <p:nvSpPr>
          <p:cNvPr id="111" name="Text Box 6"/>
          <p:cNvSpPr/>
          <p:nvPr/>
        </p:nvSpPr>
        <p:spPr>
          <a:xfrm>
            <a:off x="762120" y="76212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514600" y="1676520"/>
            <a:ext cx="3276720" cy="1295280"/>
          </a:xfrm>
          <a:prstGeom prst="line">
            <a:avLst/>
          </a:prstGeom>
          <a:ln w="284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914400" y="3124080"/>
            <a:ext cx="2057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666880" y="3581280"/>
            <a:ext cx="3124440" cy="1905120"/>
          </a:xfrm>
          <a:prstGeom prst="line">
            <a:avLst/>
          </a:prstGeom>
          <a:ln w="284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380880"/>
            <a:ext cx="70866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lfur Ox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fossil fuel bur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so2trend"/>
          <p:cNvPicPr/>
          <p:nvPr/>
        </p:nvPicPr>
        <p:blipFill>
          <a:blip r:embed="rId1"/>
          <a:stretch/>
        </p:blipFill>
        <p:spPr>
          <a:xfrm>
            <a:off x="2286000" y="3429000"/>
            <a:ext cx="6400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id Rain Chemist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ification of water in lakes and so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irr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sion of limestone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plant fol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10:32Z</dcterms:created>
  <dc:creator>tosborne</dc:creator>
  <dc:description/>
  <dc:language>en-US</dc:language>
  <cp:lastModifiedBy>Teri Osborne</cp:lastModifiedBy>
  <dcterms:modified xsi:type="dcterms:W3CDTF">2011-03-21T00:28:17Z</dcterms:modified>
  <cp:revision>44</cp:revision>
  <dc:subject/>
  <dc:title>Slide 1</dc:title>
</cp:coreProperties>
</file>